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A8E-5B77-4E2B-A3D5-A86F88AA2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1A58-05EF-45DB-8B6C-FF7BEA0F2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E3E-A88A-4AA4-99D3-B19A2E1F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E61-02DA-4958-94BB-5BBDB07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8FF-FCF6-490A-8B90-750327F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DA9-7E43-46A7-B209-136BFA46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0BF-D538-4EC8-AB07-236938B4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02A-71A4-4630-9CC1-DE10A30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447-BA8C-4491-A673-AD92ECD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AA0-4063-45FC-BBDB-F011BA7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A8E-D306-48AF-AA1D-1757969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9E1-9D07-42AA-B20C-79F50F0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162-0A68-4224-BD8E-A890B0B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866-56F2-4847-A50A-CB9499A9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90AE-4EDD-4AA5-A169-9D2BF8423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art 1)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nerg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Passamo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are Sequ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aximize this energy coupling, most biochemical reactions are in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es can enter at different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upload.wikimedia.org/wikipedia/commons/thumb/0/0b/Citric_acid_cycle_with_aconitate_2.svg/500px-Citric_acid_cycle_with_aconitate_2.svg.png"/>
          <p:cNvPicPr/>
          <p:nvPr/>
        </p:nvPicPr>
        <p:blipFill>
          <a:blip r:embed="rId1"/>
          <a:stretch/>
        </p:blipFill>
        <p:spPr>
          <a:xfrm>
            <a:off x="228600" y="0"/>
            <a:ext cx="86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Home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things constantly require free energy to fight the effects of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free energy = DEAT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 free energy = GROWT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Free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use free energy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home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lm tree flowers produce heat in response to fluctuating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ds in reproduction also…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A:V ratio keeps heat in longer…how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goodmansjourney.com/weblog/home_nashville%20resort%20flowers.jpg"/>
          <p:cNvPicPr/>
          <p:nvPr/>
        </p:nvPicPr>
        <p:blipFill>
          <a:blip r:embed="rId1"/>
          <a:srcRect l="9500" t="23114" r="0" b="16445"/>
          <a:stretch/>
        </p:blipFill>
        <p:spPr>
          <a:xfrm>
            <a:off x="5562720" y="236232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totherm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external thermal energy to help regulate body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shawnolson.net/media/1/image/jpeg/original/3496_1_1269_8.jpg"/>
          <p:cNvPicPr/>
          <p:nvPr/>
        </p:nvPicPr>
        <p:blipFill>
          <a:blip r:embed="rId1"/>
          <a:stretch/>
        </p:blipFill>
        <p:spPr>
          <a:xfrm>
            <a:off x="5029200" y="1371600"/>
            <a:ext cx="35053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herm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thermal energy generated by metabolism to maintain body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uconnladybug.files.wordpress.com/2011/01/american-bald-eagle.jpg"/>
          <p:cNvPicPr/>
          <p:nvPr/>
        </p:nvPicPr>
        <p:blipFill>
          <a:blip r:embed="rId1"/>
          <a:stretch/>
        </p:blipFill>
        <p:spPr>
          <a:xfrm>
            <a:off x="4343400" y="1828800"/>
            <a:ext cx="44481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fspring are Expensiv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mean paying for diapers &amp; tuiti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ing and rearing of offspring requires significant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employ a variety of methods to offset these dem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sonal reproduction when nutrients are abund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nnial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bolism &amp;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onsidered is the size facto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animals have higher M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eat more frequ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nimals have lower M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eat less frequ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   Remember the Palm tree exampl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e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are ver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in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media.ny1.com/media/2009/6/21/images/bkbldgcollapsec35e2a52-9dfb-466a-a23a-60a7f0cf149d.jpg"/>
          <p:cNvPicPr/>
          <p:nvPr/>
        </p:nvPicPr>
        <p:blipFill>
          <a:blip r:embed="rId1"/>
          <a:stretch/>
        </p:blipFill>
        <p:spPr>
          <a:xfrm>
            <a:off x="380880" y="3581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cheshire.k12.ct.us/dodd2/teachers/imargary/images/D53FECD0AA9C41EAAE2F7CE85FED53D8.jpg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cannot be made or destroyed, on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formed or transfe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           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Muscl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hemical Energy)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(Mechanical 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nlight      +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Radiant Energy)      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(Chemical Energy)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ergy being transferred around within matter is called ENTHALPY (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not the only consideration for energy available to organis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order requires energ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atter tends to become dis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ENTROPY 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e me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break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s de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 =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 – T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transf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ystems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rop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 how mu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e energ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available to perform biological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G is positive, the process requires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G is negative, the process gives off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entic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 = 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 – T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colate Cake Enthalpy= 500 calories (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ell temperature = 20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tropy = 5 cal/c (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colate cake metabolized to individual sugars = 700 calories (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tropy after metabolizing cake = 10 cal/c (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d: Free energy change = - 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in entropy but because excess energy is released, it can be used to do work for another re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/Work requires a lot of fre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breaking down organic compounds, we increase entropy (disord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ergy released from this can be coupled to a reaction needing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hysioweb.uvm.edu/muscle_physio/html_images/berger4.gif"/>
          <p:cNvPicPr/>
          <p:nvPr/>
        </p:nvPicPr>
        <p:blipFill>
          <a:blip r:embed="rId2"/>
          <a:srcRect l="0" t="10669" r="0" b="0"/>
          <a:stretch/>
        </p:blipFill>
        <p:spPr>
          <a:xfrm>
            <a:off x="457200" y="0"/>
            <a:ext cx="805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23:30Z</dcterms:created>
  <dc:creator>Passamonti, Leanne</dc:creator>
  <dc:description/>
  <dc:language>en-US</dc:language>
  <cp:lastModifiedBy>biochemchic21</cp:lastModifiedBy>
  <dcterms:modified xsi:type="dcterms:W3CDTF">2012-05-18T01:55:27Z</dcterms:modified>
  <cp:revision>21</cp:revision>
  <dc:subject/>
  <dc:title>Unit 2 (Part 1) Bioenergetics</dc:title>
</cp:coreProperties>
</file>